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094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324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3087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90066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  <a:p>
            <a:pPr lvl="1" marL="379440" indent="0"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94680" algn="ctr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94680" algn="ctr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17760" indent="101520" algn="ctr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517760" indent="101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517760" indent="101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0033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324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hapter 21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37960" y="1531440"/>
            <a:ext cx="8677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93366"/>
                </a:solidFill>
                <a:latin typeface="Times New Roman"/>
              </a:rPr>
              <a:t>The Genetic Basis </a:t>
            </a:r>
            <a:br>
              <a:rPr sz="5500"/>
            </a:br>
            <a:r>
              <a:rPr b="0" lang="en-US" sz="5500" spc="-1" strike="noStrike">
                <a:solidFill>
                  <a:srgbClr val="993366"/>
                </a:solidFill>
                <a:latin typeface="Times New Roman"/>
              </a:rPr>
              <a:t>of Development</a:t>
            </a: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21.2: Different cell types result from differential gene expression in cells with the same 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erences between cells in a multicellular organ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 almost entirely from differences in gene expression, not from differences in the cells’ gen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vidence for Genomic Equivalenc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experiments support the conclusion th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rly all the cells of an organism have genomic equivalence, that is, they have the same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Totipotency in Plant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experimental approach for testing genomic equi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9280">
              <a:spcBef>
                <a:spcPts val="1514"/>
              </a:spcBef>
              <a:spcAft>
                <a:spcPts val="675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to see whether a differentiated cell can generate a whole organis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101240" y="781200"/>
            <a:ext cx="6962760" cy="5708160"/>
            <a:chOff x="1101240" y="781200"/>
            <a:chExt cx="6962760" cy="5708160"/>
          </a:xfrm>
        </p:grpSpPr>
        <p:grpSp>
          <p:nvGrpSpPr>
            <p:cNvPr id="255" name=""/>
            <p:cNvGrpSpPr/>
            <p:nvPr/>
          </p:nvGrpSpPr>
          <p:grpSpPr>
            <a:xfrm>
              <a:off x="1824120" y="781200"/>
              <a:ext cx="6239880" cy="5359680"/>
              <a:chOff x="1824120" y="781200"/>
              <a:chExt cx="6239880" cy="5359680"/>
            </a:xfrm>
          </p:grpSpPr>
          <p:pic>
            <p:nvPicPr>
              <p:cNvPr id="2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5200" y="887400"/>
                <a:ext cx="3249360" cy="4800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7" name=""/>
              <p:cNvGrpSpPr/>
              <p:nvPr/>
            </p:nvGrpSpPr>
            <p:grpSpPr>
              <a:xfrm>
                <a:off x="2508480" y="963360"/>
                <a:ext cx="1220040" cy="281160"/>
                <a:chOff x="2508480" y="963360"/>
                <a:chExt cx="1220040" cy="2811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509560" y="963720"/>
                  <a:ext cx="1218960" cy="28080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508480" y="963360"/>
                  <a:ext cx="11772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XPERI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5532120" y="781200"/>
                <a:ext cx="9486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ansver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ection o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arrot 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34800" y="1757520"/>
                <a:ext cx="8647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-m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rag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445200" y="2787480"/>
                <a:ext cx="1248840" cy="13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ragments cu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ured in nutr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dium; stir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ing cau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ingle cells 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ear off in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iqui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601160" y="2803680"/>
                <a:ext cx="959400" cy="10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ingle ce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ree 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uspen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egin 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ivid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86400" y="2827440"/>
                <a:ext cx="1204560" cy="82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mbryon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lant develo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rom a cultur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ingle cell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583320" y="2841480"/>
                <a:ext cx="1162080" cy="10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lantlet is cu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ured on ag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dium. La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t is plan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 soil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1925640" y="4162320"/>
                <a:ext cx="1143000" cy="275040"/>
                <a:chOff x="1925640" y="4162320"/>
                <a:chExt cx="1143000" cy="2750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925640" y="4184640"/>
                  <a:ext cx="1143000" cy="2347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943640" y="4162320"/>
                  <a:ext cx="8967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SULT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" name=""/>
              <p:cNvSpPr/>
              <p:nvPr/>
            </p:nvSpPr>
            <p:spPr>
              <a:xfrm>
                <a:off x="1824120" y="4162320"/>
                <a:ext cx="2585520" cy="10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              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 sing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omatic (nonreproductive) carr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ell developed into a mature carr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lant. The new plant was a genetic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uplicate(clone) of the parent plan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414400" y="5422680"/>
                <a:ext cx="909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dult pla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1933200" y="5660640"/>
                <a:ext cx="1230480" cy="282600"/>
                <a:chOff x="1933200" y="5660640"/>
                <a:chExt cx="1230480" cy="28260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1944720" y="5661000"/>
                  <a:ext cx="1218960" cy="28224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933200" y="5660640"/>
                  <a:ext cx="12092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ONCLU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>
                <a:off x="1888200" y="5683320"/>
                <a:ext cx="6175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               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t least some differentiated (somatic) cells in plants are toipotent, a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 reverse their differentiation and then give rise to all the cell types in a mature plan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101240" y="6153480"/>
              <a:ext cx="1254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21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otipotent c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ne capable of generating a complete new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o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using one or more somatic cells from a multicellular organism to make another genetically identical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Nuclear Transplantation in Animals</a:t>
            </a:r>
            <a:br>
              <a:rPr sz="3000"/>
            </a:b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nuclear transpla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cleus of an unfertilized egg cell or zygote is replaced with the nucleus of a differentiated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riments with frog embry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hown that a transplanted nucleus can often support normal development of the e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99560" y="2325600"/>
            <a:ext cx="7555320" cy="4221000"/>
            <a:chOff x="799560" y="2325600"/>
            <a:chExt cx="7555320" cy="4221000"/>
          </a:xfrm>
        </p:grpSpPr>
        <p:sp>
          <p:nvSpPr>
            <p:cNvPr id="283" name=""/>
            <p:cNvSpPr/>
            <p:nvPr/>
          </p:nvSpPr>
          <p:spPr>
            <a:xfrm>
              <a:off x="799560" y="6210720"/>
              <a:ext cx="1254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21.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1218960" y="2325600"/>
              <a:ext cx="7135920" cy="4159800"/>
              <a:chOff x="1218960" y="2325600"/>
              <a:chExt cx="7135920" cy="415980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1256040" y="2332080"/>
                <a:ext cx="1177200" cy="275040"/>
                <a:chOff x="1256040" y="2332080"/>
                <a:chExt cx="1177200" cy="2750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1298520" y="2378160"/>
                  <a:ext cx="1036440" cy="1825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256040" y="2332080"/>
                  <a:ext cx="11772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XPERI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1218960" y="2325600"/>
                <a:ext cx="713592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                   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searchers enucleated frog egg cells by exposing them to ultraviolet light, which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stroyed the nucleus. Nuclei from cells of embryos up to the tadpole stage were transplanted into th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nucleated egg cell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6320" y="3139920"/>
                <a:ext cx="2967120" cy="292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>
                <a:off x="2667960" y="3063600"/>
                <a:ext cx="1050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rog embry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082760" y="3062160"/>
                <a:ext cx="1068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rog egg ce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167800" y="3043080"/>
                <a:ext cx="1044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rog tadpo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554920" y="3762360"/>
                <a:ext cx="10018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ss differ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ntiated ce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590920" y="4425840"/>
                <a:ext cx="712440" cy="82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on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ucle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an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lan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084920" y="4389480"/>
                <a:ext cx="9514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nucle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gg ce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449320" y="3566160"/>
                <a:ext cx="132804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ully differ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tiat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(intestinal) cel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726160" y="4282920"/>
                <a:ext cx="712440" cy="82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on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ucle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an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lan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942640" y="6027840"/>
                <a:ext cx="10947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ost develo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o tadpo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972680" y="6021360"/>
                <a:ext cx="10735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&lt;2% develo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o tadpo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84120" y="914040"/>
            <a:ext cx="8234640" cy="2046240"/>
            <a:chOff x="384120" y="914040"/>
            <a:chExt cx="8234640" cy="2046240"/>
          </a:xfrm>
        </p:grpSpPr>
        <p:grpSp>
          <p:nvGrpSpPr>
            <p:cNvPr id="302" name=""/>
            <p:cNvGrpSpPr/>
            <p:nvPr/>
          </p:nvGrpSpPr>
          <p:grpSpPr>
            <a:xfrm>
              <a:off x="533520" y="914040"/>
              <a:ext cx="1307880" cy="305640"/>
              <a:chOff x="533520" y="914040"/>
              <a:chExt cx="1307880" cy="305640"/>
            </a:xfrm>
          </p:grpSpPr>
          <p:sp>
            <p:nvSpPr>
              <p:cNvPr id="303" name=""/>
              <p:cNvSpPr/>
              <p:nvPr/>
            </p:nvSpPr>
            <p:spPr>
              <a:xfrm>
                <a:off x="546120" y="954360"/>
                <a:ext cx="1295280" cy="2286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33520" y="914040"/>
                <a:ext cx="1014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RESUL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384120" y="935640"/>
              <a:ext cx="823464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st of the recipient eggs developed into tadpoles when the transplanted nuclei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me from cells of an early embryo, which are relatively undifferentiated cells. But with nuclei from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lly differentiated intestinal cells of a tadpole, fewer than 2% of the eggs developed into norm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dpoles, and most of the embryos died at a much earlier developmental stag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410040" y="2209680"/>
              <a:ext cx="7986240" cy="750600"/>
              <a:chOff x="410040" y="2209680"/>
              <a:chExt cx="7986240" cy="7506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507960" y="2209680"/>
                <a:ext cx="1379880" cy="305640"/>
                <a:chOff x="507960" y="2209680"/>
                <a:chExt cx="1379880" cy="3056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46120" y="2249640"/>
                  <a:ext cx="1295280" cy="22860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07960" y="2209680"/>
                  <a:ext cx="1379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CLU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410040" y="2228400"/>
                <a:ext cx="798624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nucleus from a differentiated frog cell can direct development of a tadpole.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owever, its ability to do so decreases as the donor cell becomes more differentiated, presumably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ecause of changes in the nucleus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oductive Cloning of Mamm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1997, Scottish researc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ned a lamb from an adult sheep by nuclear transpla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78640" y="1104840"/>
            <a:ext cx="8182080" cy="5472360"/>
            <a:chOff x="278640" y="1104840"/>
            <a:chExt cx="8182080" cy="5472360"/>
          </a:xfrm>
        </p:grpSpPr>
        <p:grpSp>
          <p:nvGrpSpPr>
            <p:cNvPr id="315" name=""/>
            <p:cNvGrpSpPr/>
            <p:nvPr/>
          </p:nvGrpSpPr>
          <p:grpSpPr>
            <a:xfrm>
              <a:off x="278640" y="1104840"/>
              <a:ext cx="8182080" cy="5472360"/>
              <a:chOff x="278640" y="1104840"/>
              <a:chExt cx="8182080" cy="547236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278640" y="1104840"/>
                <a:ext cx="7939440" cy="5472360"/>
                <a:chOff x="278640" y="1104840"/>
                <a:chExt cx="7939440" cy="547236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7319520" y="2197080"/>
                  <a:ext cx="77940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ucle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move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8" name=""/>
                <p:cNvGrpSpPr/>
                <p:nvPr/>
              </p:nvGrpSpPr>
              <p:grpSpPr>
                <a:xfrm>
                  <a:off x="5181480" y="1104840"/>
                  <a:ext cx="3036600" cy="5472360"/>
                  <a:chOff x="5181480" y="1104840"/>
                  <a:chExt cx="3036600" cy="5472360"/>
                </a:xfrm>
              </p:grpSpPr>
              <p:pic>
                <p:nvPicPr>
                  <p:cNvPr id="319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46440" y="1104840"/>
                    <a:ext cx="27068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0" name=""/>
                  <p:cNvSpPr/>
                  <p:nvPr/>
                </p:nvSpPr>
                <p:spPr>
                  <a:xfrm>
                    <a:off x="5234760" y="1263600"/>
                    <a:ext cx="861840" cy="457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Mammar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cell dono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6785280" y="1193760"/>
                    <a:ext cx="729000" cy="457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Egg cel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ono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494760" y="2013120"/>
                    <a:ext cx="905760" cy="457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Egg cel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from ovar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5309640" y="2521080"/>
                    <a:ext cx="1401120" cy="1187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Cultured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mammary cells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re semistarved,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rresting the cel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cycle and causin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edifferentiatio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7085160" y="3333600"/>
                    <a:ext cx="1132920" cy="457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Nucleus fro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mammary cel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5254200" y="3695760"/>
                    <a:ext cx="129744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Grown in cultur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7071480" y="3981240"/>
                    <a:ext cx="108432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Early embry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5287320" y="4184640"/>
                    <a:ext cx="1486440" cy="457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Implanted in uteru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of a third shee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146720" y="4838760"/>
                    <a:ext cx="857160" cy="457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Surrogat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mothe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285160" y="5143680"/>
                    <a:ext cx="1061280" cy="457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Embryoni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evelopmen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6159240" y="5937120"/>
                    <a:ext cx="1724400" cy="64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Lamb (“Dolly”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genetically identical to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mammary cell dono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5181480" y="3753000"/>
                    <a:ext cx="152280" cy="152280"/>
                  </a:xfrm>
                  <a:prstGeom prst="flowChartConnector">
                    <a:avLst/>
                  </a:pr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00560" y="4254480"/>
                    <a:ext cx="152280" cy="152280"/>
                  </a:xfrm>
                  <a:prstGeom prst="flowChartConnector">
                    <a:avLst/>
                  </a:pr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5206680" y="5194440"/>
                    <a:ext cx="152640" cy="152280"/>
                  </a:xfrm>
                  <a:prstGeom prst="flowChartConnector">
                    <a:avLst/>
                  </a:pr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930640" y="1797120"/>
                    <a:ext cx="152280" cy="152280"/>
                  </a:xfrm>
                  <a:prstGeom prst="flowChartConnector">
                    <a:avLst/>
                  </a:pr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7441920" y="1828800"/>
                    <a:ext cx="152280" cy="152280"/>
                  </a:xfrm>
                  <a:prstGeom prst="flowChartConnector">
                    <a:avLst/>
                  </a:pr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400440" y="2527200"/>
                    <a:ext cx="152640" cy="152640"/>
                  </a:xfrm>
                  <a:prstGeom prst="flowChartConnector">
                    <a:avLst/>
                  </a:pr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6510240" y="2463840"/>
                    <a:ext cx="94104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Cells fuse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278640" y="1270080"/>
                  <a:ext cx="4008600" cy="673200"/>
                  <a:chOff x="278640" y="1270080"/>
                  <a:chExt cx="4008600" cy="67320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380880" y="1295280"/>
                    <a:ext cx="1067040" cy="228600"/>
                  </a:xfrm>
                  <a:prstGeom prst="rect">
                    <a:avLst/>
                  </a:pr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306000" y="1270080"/>
                    <a:ext cx="121824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APPLICATIO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278640" y="1303200"/>
                    <a:ext cx="4008600" cy="64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This method is used to produce cloned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nimals whose nuclear genes are identical to the donor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nimal supplying the nucleus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290880" y="2286000"/>
                  <a:ext cx="4784400" cy="673560"/>
                  <a:chOff x="290880" y="2286000"/>
                  <a:chExt cx="4784400" cy="67356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>
                    <a:off x="393480" y="2286000"/>
                    <a:ext cx="1066320" cy="228600"/>
                  </a:xfrm>
                  <a:prstGeom prst="rect">
                    <a:avLst/>
                  </a:pr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TECHNIQU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290880" y="2319480"/>
                    <a:ext cx="4784400" cy="64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Shown here is the procedure used to produce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olly, the first reported case of a mammal cloned using the nucleus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of a differentiated cell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325080" y="3289320"/>
                  <a:ext cx="4517640" cy="665640"/>
                  <a:chOff x="325080" y="3289320"/>
                  <a:chExt cx="4517640" cy="66564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431640" y="3302280"/>
                    <a:ext cx="1066320" cy="228600"/>
                  </a:xfrm>
                  <a:prstGeom prst="rect">
                    <a:avLst/>
                  </a:pr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418320" y="3289320"/>
                    <a:ext cx="8967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RESULT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325080" y="3314880"/>
                    <a:ext cx="4517640" cy="64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The cloned animal is identical in appearance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nd genetic makeup to the donor animal supplying the nucleus,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but differs from the egg cell donor and surrogate mother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9" name=""/>
              <p:cNvSpPr/>
              <p:nvPr/>
            </p:nvSpPr>
            <p:spPr>
              <a:xfrm>
                <a:off x="7681320" y="2286000"/>
                <a:ext cx="7794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ucle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mov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3349080" y="6140880"/>
              <a:ext cx="1254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21.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view: From Single Cell to Multicellular Organ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pplication of genetic analysis and DNA technolog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revolutionized the study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py Cat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the first cat ever cl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048120" y="1962000"/>
            <a:ext cx="3492360" cy="4577760"/>
            <a:chOff x="3048120" y="1962000"/>
            <a:chExt cx="3492360" cy="4577760"/>
          </a:xfrm>
        </p:grpSpPr>
        <p:sp>
          <p:nvSpPr>
            <p:cNvPr id="354" name=""/>
            <p:cNvSpPr/>
            <p:nvPr/>
          </p:nvSpPr>
          <p:spPr>
            <a:xfrm>
              <a:off x="4115520" y="6203880"/>
              <a:ext cx="1254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2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1"/>
            <a:stretch/>
          </p:blipFill>
          <p:spPr>
            <a:xfrm>
              <a:off x="3048120" y="1962000"/>
              <a:ext cx="3492360" cy="4190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s Associated with Animal Clo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most nuclear transplantation studies performed thus f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 small percentage of cloned embryos develop normally to 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The Stem Cells of Animal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1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tem c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relatively unspecialized ce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eproduce itself indefini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differentiate into specialized cells of one or more types, given appropriate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1144080" y="1915560"/>
            <a:ext cx="5484960" cy="4656240"/>
            <a:chOff x="1144080" y="1915560"/>
            <a:chExt cx="5484960" cy="4656240"/>
          </a:xfrm>
        </p:grpSpPr>
        <p:sp>
          <p:nvSpPr>
            <p:cNvPr id="361" name=""/>
            <p:cNvSpPr/>
            <p:nvPr/>
          </p:nvSpPr>
          <p:spPr>
            <a:xfrm>
              <a:off x="1144080" y="6235920"/>
              <a:ext cx="1254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21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2663640" y="1915560"/>
              <a:ext cx="3965400" cy="4559400"/>
              <a:chOff x="2663640" y="1915560"/>
              <a:chExt cx="3965400" cy="4559400"/>
            </a:xfrm>
          </p:grpSpPr>
          <p:grpSp>
            <p:nvGrpSpPr>
              <p:cNvPr id="363" name=""/>
              <p:cNvGrpSpPr/>
              <p:nvPr/>
            </p:nvGrpSpPr>
            <p:grpSpPr>
              <a:xfrm>
                <a:off x="2663640" y="1971360"/>
                <a:ext cx="3965400" cy="4503600"/>
                <a:chOff x="2663640" y="1971360"/>
                <a:chExt cx="3965400" cy="4503600"/>
              </a:xfrm>
            </p:grpSpPr>
            <p:pic>
              <p:nvPicPr>
                <p:cNvPr id="36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57480" y="1971360"/>
                  <a:ext cx="2671560" cy="450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5" name=""/>
                <p:cNvSpPr/>
                <p:nvPr/>
              </p:nvSpPr>
              <p:spPr>
                <a:xfrm>
                  <a:off x="3915000" y="2058480"/>
                  <a:ext cx="124416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Early human embryo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t blastocyst stag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mammalian equiva-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lent of blastula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348160" y="2079720"/>
                  <a:ext cx="11527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rom bone marrow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in this exampl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220280" y="3405240"/>
                  <a:ext cx="69696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otipot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ell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58560" y="3411360"/>
                  <a:ext cx="735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luripot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ell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677320" y="3743280"/>
                  <a:ext cx="69696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ulture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tem cell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663640" y="4528800"/>
                  <a:ext cx="704880" cy="50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iffer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ultur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dition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665080" y="5449320"/>
                  <a:ext cx="85104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iffer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ypes of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ifferentiate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ell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947760" y="5410440"/>
                  <a:ext cx="69876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Liver cell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886640" y="5426280"/>
                  <a:ext cx="75492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Nerve cell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5840640" y="5418360"/>
                  <a:ext cx="74268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Blood cell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5" name=""/>
              <p:cNvSpPr/>
              <p:nvPr/>
            </p:nvSpPr>
            <p:spPr>
              <a:xfrm>
                <a:off x="3872880" y="1915560"/>
                <a:ext cx="1366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Embryonic stem cel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396040" y="1923120"/>
                <a:ext cx="106596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dult stem cel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m cells can be isolat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early embryos at the blastocyst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ult stem ce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aid to be pluripotent, able to give rise to multiple but not all cell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ranscriptional Regulation of Gene Expression During Develop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04920" y="1033560"/>
            <a:ext cx="853416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 determin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4928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es differentiation and involves the expression of genes for tissue-specific 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ssue-specific prote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4928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differentiated cells to carry out their specific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755640" y="1240920"/>
            <a:ext cx="7772400" cy="4988160"/>
            <a:chOff x="755640" y="1240920"/>
            <a:chExt cx="7772400" cy="4988160"/>
          </a:xfrm>
        </p:grpSpPr>
        <p:pic>
          <p:nvPicPr>
            <p:cNvPr id="384" name="" descr=""/>
            <p:cNvPicPr/>
            <p:nvPr/>
          </p:nvPicPr>
          <p:blipFill>
            <a:blip r:embed="rId1"/>
            <a:stretch/>
          </p:blipFill>
          <p:spPr>
            <a:xfrm>
              <a:off x="755640" y="1244520"/>
              <a:ext cx="7772400" cy="498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5" name=""/>
            <p:cNvGrpSpPr/>
            <p:nvPr/>
          </p:nvGrpSpPr>
          <p:grpSpPr>
            <a:xfrm>
              <a:off x="947520" y="1240920"/>
              <a:ext cx="7502400" cy="4988160"/>
              <a:chOff x="947520" y="1240920"/>
              <a:chExt cx="7502400" cy="4988160"/>
            </a:xfrm>
          </p:grpSpPr>
          <p:sp>
            <p:nvSpPr>
              <p:cNvPr id="386" name=""/>
              <p:cNvSpPr/>
              <p:nvPr/>
            </p:nvSpPr>
            <p:spPr>
              <a:xfrm>
                <a:off x="3689280" y="1650600"/>
                <a:ext cx="42588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416120" y="1817280"/>
                <a:ext cx="4136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F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597360" y="1817280"/>
                <a:ext cx="4136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F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630480" y="2655360"/>
                <a:ext cx="4136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F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375440" y="2777760"/>
                <a:ext cx="520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R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73720" y="4946400"/>
                <a:ext cx="520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R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824800" y="4933440"/>
                <a:ext cx="520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R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175520" y="4933440"/>
                <a:ext cx="520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R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929720" y="4946400"/>
                <a:ext cx="520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R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676840" y="5725080"/>
                <a:ext cx="81288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nother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ac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490640" y="5694120"/>
                <a:ext cx="4838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yo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474920" y="5852520"/>
                <a:ext cx="11649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Muscle cell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fully differentiated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12760" y="3175560"/>
                <a:ext cx="86796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yoD protein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transcription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actor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947520" y="3328200"/>
                <a:ext cx="8359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Myoblast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determined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975960" y="1867680"/>
                <a:ext cx="8769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mbryonic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ecursor cel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296120" y="5429520"/>
                <a:ext cx="10508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yosin, other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uscle proteins,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nd cell-cycle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locking protein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6040440" y="1550880"/>
                <a:ext cx="476280" cy="192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472080" y="1550880"/>
                <a:ext cx="1687680" cy="192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65960" y="1550880"/>
                <a:ext cx="869760" cy="22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694840" y="1298160"/>
                <a:ext cx="163728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ther muscle-specific gen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619520" y="1492200"/>
                <a:ext cx="0" cy="203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893040" y="1298160"/>
                <a:ext cx="15325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aster control gene 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myo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244520" y="1433520"/>
                <a:ext cx="0" cy="24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031400" y="1240920"/>
                <a:ext cx="601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ucleu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0" name=""/>
              <p:cNvGrpSpPr/>
              <p:nvPr/>
            </p:nvGrpSpPr>
            <p:grpSpPr>
              <a:xfrm>
                <a:off x="1543680" y="2400840"/>
                <a:ext cx="2157120" cy="1189800"/>
                <a:chOff x="1543680" y="2400840"/>
                <a:chExt cx="2157120" cy="118980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1747800" y="2400840"/>
                  <a:ext cx="19530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etermination.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Signals from other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ells lead to activation of a master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regulatory gene called </a:t>
                  </a: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myoD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, and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he cell makes MyoD protein, a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ranscription factor. The cell, now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alled a myoblast, is irreversibly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mmitted to becoming a skeletal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muscle cell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2" name=""/>
                <p:cNvGrpSpPr/>
                <p:nvPr/>
              </p:nvGrpSpPr>
              <p:grpSpPr>
                <a:xfrm>
                  <a:off x="1543680" y="2421000"/>
                  <a:ext cx="270360" cy="275040"/>
                  <a:chOff x="1543680" y="2421000"/>
                  <a:chExt cx="270360" cy="27504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1568880" y="2446200"/>
                    <a:ext cx="204120" cy="203760"/>
                  </a:xfrm>
                  <a:prstGeom prst="flowChartConnector">
                    <a:avLst/>
                  </a:pr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543680" y="242100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5" name=""/>
              <p:cNvGrpSpPr/>
              <p:nvPr/>
            </p:nvGrpSpPr>
            <p:grpSpPr>
              <a:xfrm>
                <a:off x="1540440" y="3908520"/>
                <a:ext cx="2525400" cy="1464120"/>
                <a:chOff x="1540440" y="3908520"/>
                <a:chExt cx="2525400" cy="14641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738080" y="3908520"/>
                  <a:ext cx="2327760" cy="14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ifferentiation.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MyoD protein stimulates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he </a:t>
                  </a: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myoD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gene further, and activates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enes encoding other muscle-specific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ranscription factors, which in turn 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ctivate genes for muscle proteins. MyoD 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lso turns on genes that block the cell 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ycle, thus stopping cell division. The 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nondividing myoblasts fuse to become  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mature multinucleate muscle cells, also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alled muscle fibers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7" name=""/>
                <p:cNvGrpSpPr/>
                <p:nvPr/>
              </p:nvGrpSpPr>
              <p:grpSpPr>
                <a:xfrm>
                  <a:off x="1540440" y="3935520"/>
                  <a:ext cx="270360" cy="275040"/>
                  <a:chOff x="1540440" y="3935520"/>
                  <a:chExt cx="270360" cy="27504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1563840" y="3965040"/>
                    <a:ext cx="204120" cy="203760"/>
                  </a:xfrm>
                  <a:prstGeom prst="flowChartConnector">
                    <a:avLst/>
                  </a:pr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1540440" y="393552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termination and differentiation of muscle cell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96720" y="6235920"/>
            <a:ext cx="136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21.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ytoplasmic Determinants and Cell-Cell Signals in Cell Different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ytoplasmic determinants in the cytoplasm of the unfertilized eg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e the expression of genes in the zygote that affect the developmental fate of embryonic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789360" y="3425760"/>
            <a:ext cx="556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24560" y="3276720"/>
            <a:ext cx="97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lecules o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other cyto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smic deter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n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809360" y="3098880"/>
            <a:ext cx="5817240" cy="3485880"/>
            <a:chOff x="1809360" y="3098880"/>
            <a:chExt cx="5817240" cy="3485880"/>
          </a:xfrm>
        </p:grpSpPr>
        <p:sp>
          <p:nvSpPr>
            <p:cNvPr id="428" name=""/>
            <p:cNvSpPr/>
            <p:nvPr/>
          </p:nvSpPr>
          <p:spPr>
            <a:xfrm>
              <a:off x="4161960" y="6248880"/>
              <a:ext cx="1480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21.11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1809360" y="3098880"/>
              <a:ext cx="5817240" cy="3246120"/>
              <a:chOff x="1809360" y="3098880"/>
              <a:chExt cx="5817240" cy="3246120"/>
            </a:xfrm>
          </p:grpSpPr>
          <p:pic>
            <p:nvPicPr>
              <p:cNvPr id="43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735280" y="3220920"/>
                <a:ext cx="2522520" cy="243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"/>
              <p:cNvSpPr/>
              <p:nvPr/>
            </p:nvSpPr>
            <p:spPr>
              <a:xfrm>
                <a:off x="4268160" y="3098880"/>
                <a:ext cx="1285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nfertilized egg ce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890800" y="3603600"/>
                <a:ext cx="103392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lecules of a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 cytoplasmi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termin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541400" y="3897360"/>
                <a:ext cx="8298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ertiliz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015000" y="4222800"/>
                <a:ext cx="985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Zygo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fertilized egg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10520" y="4748040"/>
                <a:ext cx="12290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totic cell divis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036960" y="5094360"/>
                <a:ext cx="796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wo-cell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mbry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7" name=""/>
              <p:cNvGrpSpPr/>
              <p:nvPr/>
            </p:nvGrpSpPr>
            <p:grpSpPr>
              <a:xfrm>
                <a:off x="1809360" y="5483160"/>
                <a:ext cx="5817240" cy="861840"/>
                <a:chOff x="1809360" y="5483160"/>
                <a:chExt cx="5817240" cy="86184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2009880" y="5491080"/>
                  <a:ext cx="56167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ytoplasmic determinants in the egg.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The unfertilized egg cell has molecules in its cytoplasm,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ncoded by the mother’s genes, that influence development. Many of these cytoplasmic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eterminants, like the two shown here, are unevenly distributed in the egg. After fertilization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nd mitotic division, the cell nuclei of the embryo are exposed to different sets of cytoplasmic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eterminants and, as a result, express different genes.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1809360" y="5483160"/>
                  <a:ext cx="340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 flipH="1">
                <a:off x="3900240" y="3706920"/>
                <a:ext cx="672840" cy="109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3900240" y="3557520"/>
                <a:ext cx="618840" cy="258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5176800" y="3408480"/>
                <a:ext cx="362160" cy="10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086440" y="3413160"/>
                <a:ext cx="446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03400" y="3924360"/>
                <a:ext cx="642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ucleu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984920" y="3681360"/>
                <a:ext cx="693720" cy="34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6" name=""/>
          <p:cNvSpPr/>
          <p:nvPr/>
        </p:nvSpPr>
        <p:spPr>
          <a:xfrm>
            <a:off x="3201840" y="3352680"/>
            <a:ext cx="556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process called in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 molecules from embryonic cells cause transcriptional changes in nearby targe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633480" y="6020280"/>
            <a:ext cx="1491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21.1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52120" y="2749680"/>
            <a:ext cx="108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2 ce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472200" y="3531960"/>
            <a:ext cx="103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182920" y="3492360"/>
            <a:ext cx="10188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20720" y="4289400"/>
            <a:ext cx="74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231160" y="4853160"/>
            <a:ext cx="7963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duc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427640" y="3649680"/>
            <a:ext cx="814320" cy="35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4646520" y="4339800"/>
            <a:ext cx="65880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62440" y="4665600"/>
            <a:ext cx="542880" cy="42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430560" y="2554200"/>
            <a:ext cx="8352000" cy="3466440"/>
            <a:chOff x="430560" y="2554200"/>
            <a:chExt cx="8352000" cy="3466440"/>
          </a:xfrm>
        </p:grpSpPr>
        <p:pic>
          <p:nvPicPr>
            <p:cNvPr id="459" name="" descr=""/>
            <p:cNvPicPr/>
            <p:nvPr/>
          </p:nvPicPr>
          <p:blipFill>
            <a:blip r:embed="rId1"/>
            <a:stretch/>
          </p:blipFill>
          <p:spPr>
            <a:xfrm>
              <a:off x="2664000" y="2554200"/>
              <a:ext cx="2292120" cy="30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703440" y="5501880"/>
              <a:ext cx="8079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uction by nearby cells.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The cells at the bottom of the early embryo depicted here are releas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micals that signal nearby cells to change their gene expression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0560" y="5500440"/>
              <a:ext cx="41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59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21.3: Pattern formation in animals and plants results from similar genetic and cellular mechanis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tern 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development of a spatial organization of tissues and 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continually i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mostly limited to embryos and juveniles in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mutations to deduce developmental pathw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pplied the concepts and tools of molecular genetics to the study of developmental bi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829880" y="3014640"/>
            <a:ext cx="5904360" cy="3493800"/>
            <a:chOff x="1829880" y="3014640"/>
            <a:chExt cx="5904360" cy="3493800"/>
          </a:xfrm>
        </p:grpSpPr>
        <p:sp>
          <p:nvSpPr>
            <p:cNvPr id="176" name=""/>
            <p:cNvSpPr/>
            <p:nvPr/>
          </p:nvSpPr>
          <p:spPr>
            <a:xfrm>
              <a:off x="1829880" y="6172560"/>
              <a:ext cx="1254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2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3162240" y="3014640"/>
              <a:ext cx="4572000" cy="341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molecular cues that control pattern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s a cell its location relative to the body’s axes and to other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333399"/>
                </a:solidFill>
                <a:latin typeface="Times New Roman"/>
              </a:rPr>
              <a:t>Drosophila</a:t>
            </a: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 Development: A Cascade of Gene Activations</a:t>
            </a:r>
            <a:endParaRPr b="1" lang="en-US" sz="27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tern 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been extensively studied in the fruit f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rosophila melanog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The Life Cycle of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Drosophila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been well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ter fertil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al information specifies the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tial gene expression produces regional differences in the formation of the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 developmental events in the life cycle o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rosophi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345760" y="1163160"/>
            <a:ext cx="3752280" cy="5342760"/>
            <a:chOff x="2345760" y="1163160"/>
            <a:chExt cx="3752280" cy="5342760"/>
          </a:xfrm>
        </p:grpSpPr>
        <p:sp>
          <p:nvSpPr>
            <p:cNvPr id="475" name=""/>
            <p:cNvSpPr/>
            <p:nvPr/>
          </p:nvSpPr>
          <p:spPr>
            <a:xfrm>
              <a:off x="2345760" y="6169320"/>
              <a:ext cx="1367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21.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3857760" y="1163160"/>
              <a:ext cx="2240280" cy="5342760"/>
              <a:chOff x="3857760" y="1163160"/>
              <a:chExt cx="2240280" cy="5342760"/>
            </a:xfrm>
          </p:grpSpPr>
          <p:pic>
            <p:nvPicPr>
              <p:cNvPr id="47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40200" y="1203120"/>
                <a:ext cx="2085840" cy="52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>
                <a:off x="4757400" y="1163160"/>
                <a:ext cx="7506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ollicle cel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34920" y="1169280"/>
                <a:ext cx="601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ucleu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482800" y="1389960"/>
                <a:ext cx="59508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gg cel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286600" y="1591560"/>
                <a:ext cx="7747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ertiliz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12240" y="1456560"/>
                <a:ext cx="4914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urs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866400" y="1176120"/>
                <a:ext cx="10688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Egg cel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eveloping withi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varian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ollic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4959360" y="1508040"/>
                <a:ext cx="7632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111640" y="1355400"/>
                <a:ext cx="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5340240" y="127944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5397120" y="1508040"/>
                <a:ext cx="15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206680" y="1744200"/>
                <a:ext cx="87696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aying of eg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618160" y="1934280"/>
                <a:ext cx="4226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g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hel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312800" y="2109240"/>
                <a:ext cx="601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ucleu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920400" y="1806120"/>
                <a:ext cx="92556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Fertilized eg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4882680" y="1996920"/>
                <a:ext cx="2286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5530680" y="2041200"/>
                <a:ext cx="15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912120" y="2277360"/>
                <a:ext cx="6116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Embry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078440" y="2437560"/>
                <a:ext cx="863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ultinucleat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ngle cel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889440" y="2815560"/>
                <a:ext cx="10476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arly blastoder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169520" y="2980080"/>
                <a:ext cx="73224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lasm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mbran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orm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932640" y="3412440"/>
                <a:ext cx="10094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ate blastoder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295520" y="3594600"/>
                <a:ext cx="5691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ells o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mbry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3215880"/>
                <a:ext cx="40896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Yol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113000" y="3915360"/>
                <a:ext cx="771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egmente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mbry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414760" y="3640680"/>
                <a:ext cx="683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od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egm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443200" y="4109400"/>
                <a:ext cx="5659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1 m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50760" y="4345920"/>
                <a:ext cx="63936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atch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857760" y="4479480"/>
                <a:ext cx="109188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Larval stages (3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923640" y="4847760"/>
                <a:ext cx="46548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Pup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296960" y="5203440"/>
                <a:ext cx="9698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tamorphosi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482000" y="5393880"/>
                <a:ext cx="45936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ea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98800" y="5406480"/>
                <a:ext cx="5432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hora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99480" y="5393880"/>
                <a:ext cx="6757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bdome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438520" y="5762160"/>
                <a:ext cx="5659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916800" y="5609520"/>
                <a:ext cx="64368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dult fl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932360" y="5901840"/>
                <a:ext cx="5173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orsa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437000" y="6085800"/>
                <a:ext cx="5875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nteri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338440" y="6092280"/>
                <a:ext cx="6451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osteri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26240" y="6276240"/>
                <a:ext cx="54936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Ventra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943440" y="6087240"/>
                <a:ext cx="5079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OD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X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4830480" y="3589200"/>
                <a:ext cx="15228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4835160" y="3660480"/>
                <a:ext cx="2286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5340240" y="3336480"/>
                <a:ext cx="2286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5416560" y="3946320"/>
                <a:ext cx="7632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492880" y="394632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721400" y="5574960"/>
                <a:ext cx="15228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059440" y="5579640"/>
                <a:ext cx="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5440320" y="5594040"/>
                <a:ext cx="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5209560" y="2684160"/>
            <a:ext cx="249120" cy="229680"/>
            <a:chOff x="5209560" y="2684160"/>
            <a:chExt cx="249120" cy="229680"/>
          </a:xfrm>
        </p:grpSpPr>
        <p:sp>
          <p:nvSpPr>
            <p:cNvPr id="527" name=""/>
            <p:cNvSpPr/>
            <p:nvPr/>
          </p:nvSpPr>
          <p:spPr>
            <a:xfrm>
              <a:off x="5282640" y="2743200"/>
              <a:ext cx="103680" cy="105120"/>
            </a:xfrm>
            <a:prstGeom prst="flowChartConnector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09560" y="2684160"/>
              <a:ext cx="2491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204520" y="2184120"/>
            <a:ext cx="249120" cy="229680"/>
            <a:chOff x="5204520" y="2184120"/>
            <a:chExt cx="249120" cy="229680"/>
          </a:xfrm>
        </p:grpSpPr>
        <p:sp>
          <p:nvSpPr>
            <p:cNvPr id="530" name=""/>
            <p:cNvSpPr/>
            <p:nvPr/>
          </p:nvSpPr>
          <p:spPr>
            <a:xfrm>
              <a:off x="5277600" y="2243160"/>
              <a:ext cx="103680" cy="105120"/>
            </a:xfrm>
            <a:prstGeom prst="flowChartConnector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204520" y="2184120"/>
              <a:ext cx="2491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5209560" y="3184200"/>
            <a:ext cx="249120" cy="229680"/>
            <a:chOff x="5209560" y="3184200"/>
            <a:chExt cx="249120" cy="229680"/>
          </a:xfrm>
        </p:grpSpPr>
        <p:sp>
          <p:nvSpPr>
            <p:cNvPr id="533" name=""/>
            <p:cNvSpPr/>
            <p:nvPr/>
          </p:nvSpPr>
          <p:spPr>
            <a:xfrm>
              <a:off x="5282640" y="3243240"/>
              <a:ext cx="103680" cy="105120"/>
            </a:xfrm>
            <a:prstGeom prst="flowChartConnector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209560" y="3184200"/>
              <a:ext cx="2491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199840" y="3708000"/>
            <a:ext cx="249120" cy="229680"/>
            <a:chOff x="5199840" y="3708000"/>
            <a:chExt cx="249120" cy="229680"/>
          </a:xfrm>
        </p:grpSpPr>
        <p:sp>
          <p:nvSpPr>
            <p:cNvPr id="536" name=""/>
            <p:cNvSpPr/>
            <p:nvPr/>
          </p:nvSpPr>
          <p:spPr>
            <a:xfrm>
              <a:off x="5272920" y="3767040"/>
              <a:ext cx="103680" cy="105120"/>
            </a:xfrm>
            <a:prstGeom prst="flowChartConnector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99840" y="3708000"/>
              <a:ext cx="2491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5204520" y="4198680"/>
            <a:ext cx="249120" cy="229680"/>
            <a:chOff x="5204520" y="4198680"/>
            <a:chExt cx="249120" cy="229680"/>
          </a:xfrm>
        </p:grpSpPr>
        <p:sp>
          <p:nvSpPr>
            <p:cNvPr id="539" name=""/>
            <p:cNvSpPr/>
            <p:nvPr/>
          </p:nvSpPr>
          <p:spPr>
            <a:xfrm>
              <a:off x="5277600" y="4257720"/>
              <a:ext cx="103680" cy="105120"/>
            </a:xfrm>
            <a:prstGeom prst="flowChartConnector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04520" y="4198680"/>
              <a:ext cx="2491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5204520" y="4755960"/>
            <a:ext cx="249120" cy="229680"/>
            <a:chOff x="5204520" y="4755960"/>
            <a:chExt cx="249120" cy="229680"/>
          </a:xfrm>
        </p:grpSpPr>
        <p:sp>
          <p:nvSpPr>
            <p:cNvPr id="542" name=""/>
            <p:cNvSpPr/>
            <p:nvPr/>
          </p:nvSpPr>
          <p:spPr>
            <a:xfrm>
              <a:off x="5277600" y="4815000"/>
              <a:ext cx="103680" cy="105120"/>
            </a:xfrm>
            <a:prstGeom prst="flowChartConnector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04520" y="4755960"/>
              <a:ext cx="2491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209560" y="5217840"/>
            <a:ext cx="249120" cy="229680"/>
            <a:chOff x="5209560" y="5217840"/>
            <a:chExt cx="249120" cy="229680"/>
          </a:xfrm>
        </p:grpSpPr>
        <p:sp>
          <p:nvSpPr>
            <p:cNvPr id="545" name=""/>
            <p:cNvSpPr/>
            <p:nvPr/>
          </p:nvSpPr>
          <p:spPr>
            <a:xfrm>
              <a:off x="5282640" y="5276880"/>
              <a:ext cx="103680" cy="105120"/>
            </a:xfrm>
            <a:prstGeom prst="flowChartConnector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209560" y="5217840"/>
              <a:ext cx="2491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333399"/>
                </a:solidFill>
                <a:latin typeface="Times New Roman"/>
              </a:rPr>
              <a:t>Genetic Analysis of Early Development: Scientific Inquiry</a:t>
            </a:r>
            <a:endParaRPr b="1" lang="en-US" sz="27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tudy of developmental mut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id the groundwork for understanding the mechanisms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965040" y="6140880"/>
            <a:ext cx="136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21.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249200" y="2489040"/>
            <a:ext cx="6523200" cy="3543120"/>
            <a:chOff x="1249200" y="2489040"/>
            <a:chExt cx="6523200" cy="3543120"/>
          </a:xfrm>
        </p:grpSpPr>
        <p:pic>
          <p:nvPicPr>
            <p:cNvPr id="551" name="" descr=""/>
            <p:cNvPicPr/>
            <p:nvPr/>
          </p:nvPicPr>
          <p:blipFill>
            <a:blip r:embed="rId1"/>
            <a:stretch/>
          </p:blipFill>
          <p:spPr>
            <a:xfrm>
              <a:off x="1249200" y="2489040"/>
              <a:ext cx="652320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1251720" y="3045240"/>
              <a:ext cx="54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1736640" y="3220920"/>
              <a:ext cx="487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284480" y="4635720"/>
              <a:ext cx="994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nten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2223720" y="3768840"/>
              <a:ext cx="366840" cy="1036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70280" y="4767480"/>
              <a:ext cx="544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5151240" y="4378320"/>
              <a:ext cx="182520" cy="549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312280" y="5673960"/>
              <a:ext cx="107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ild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858280" y="5696280"/>
              <a:ext cx="805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xis Establish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ernal effect 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de for cytoplasmic determinants that initially establish the axes of the body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rosoph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ies with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icoi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u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develop a body axis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597960" y="1981080"/>
            <a:ext cx="7542720" cy="4476600"/>
            <a:chOff x="597960" y="1981080"/>
            <a:chExt cx="7542720" cy="4476600"/>
          </a:xfrm>
        </p:grpSpPr>
        <p:grpSp>
          <p:nvGrpSpPr>
            <p:cNvPr id="565" name=""/>
            <p:cNvGrpSpPr/>
            <p:nvPr/>
          </p:nvGrpSpPr>
          <p:grpSpPr>
            <a:xfrm>
              <a:off x="2120760" y="1981080"/>
              <a:ext cx="6019920" cy="4421160"/>
              <a:chOff x="2120760" y="1981080"/>
              <a:chExt cx="6019920" cy="4421160"/>
            </a:xfrm>
          </p:grpSpPr>
          <p:grpSp>
            <p:nvGrpSpPr>
              <p:cNvPr id="566" name=""/>
              <p:cNvGrpSpPr/>
              <p:nvPr/>
            </p:nvGrpSpPr>
            <p:grpSpPr>
              <a:xfrm>
                <a:off x="2120760" y="1981080"/>
                <a:ext cx="6019920" cy="4421160"/>
                <a:chOff x="2120760" y="1981080"/>
                <a:chExt cx="6019920" cy="4421160"/>
              </a:xfrm>
            </p:grpSpPr>
            <p:pic>
              <p:nvPicPr>
                <p:cNvPr id="567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20760" y="1981080"/>
                  <a:ext cx="6019920" cy="442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8" name=""/>
                <p:cNvSpPr/>
                <p:nvPr/>
              </p:nvSpPr>
              <p:spPr>
                <a:xfrm>
                  <a:off x="2143440" y="2410920"/>
                  <a:ext cx="610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ea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010320" y="3511080"/>
                  <a:ext cx="1366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Wild-type larv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337480" y="3835080"/>
                  <a:ext cx="471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ai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6562080" y="3889080"/>
                  <a:ext cx="471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ai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958480" y="5484600"/>
                  <a:ext cx="18032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utant larva (</a:t>
                  </a: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coid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3" name=""/>
                <p:cNvGrpSpPr/>
                <p:nvPr/>
              </p:nvGrpSpPr>
              <p:grpSpPr>
                <a:xfrm>
                  <a:off x="2121120" y="5729040"/>
                  <a:ext cx="5916240" cy="660960"/>
                  <a:chOff x="2121120" y="5729040"/>
                  <a:chExt cx="5916240" cy="66096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>
                    <a:off x="2402280" y="5749920"/>
                    <a:ext cx="5635080" cy="64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rosophila </a:t>
                    </a: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larvae with wild-type and </a:t>
                    </a:r>
                    <a:r>
                      <a:rPr b="1" i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bicoid</a:t>
                    </a: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mutant phenotypes.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A mutation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in the mother’s </a:t>
                    </a: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bicoid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gene leads to tail structures at both ends (bottom larva).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The numbers refer to the thoracic and abdominal segments that are present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2121120" y="5729040"/>
                    <a:ext cx="40284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(a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6" name=""/>
                <p:cNvSpPr/>
                <p:nvPr/>
              </p:nvSpPr>
              <p:spPr>
                <a:xfrm>
                  <a:off x="2693880" y="2563920"/>
                  <a:ext cx="573120" cy="1936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V="1">
                  <a:off x="6350040" y="4051440"/>
                  <a:ext cx="285480" cy="1936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H="1" flipV="1">
                  <a:off x="2765520" y="3985920"/>
                  <a:ext cx="1433520" cy="323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304440" y="2993760"/>
                  <a:ext cx="3924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677400" y="3004920"/>
                  <a:ext cx="3924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106160" y="3122280"/>
                  <a:ext cx="3924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398480" y="3241440"/>
                  <a:ext cx="4028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4689000" y="3263400"/>
                  <a:ext cx="4028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976280" y="3284280"/>
                  <a:ext cx="4028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333400" y="3273120"/>
                  <a:ext cx="4028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5692320" y="3246120"/>
                  <a:ext cx="4028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6025680" y="3187440"/>
                  <a:ext cx="4028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6273360" y="3117600"/>
                  <a:ext cx="4028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6533640" y="2993760"/>
                  <a:ext cx="4028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972960" y="5138280"/>
                  <a:ext cx="4028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453920" y="5258880"/>
                  <a:ext cx="4028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936680" y="5258880"/>
                  <a:ext cx="4028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419080" y="5258880"/>
                  <a:ext cx="4028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835240" y="5063760"/>
                  <a:ext cx="4028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flipV="1">
                  <a:off x="7041960" y="2261880"/>
                  <a:ext cx="214560" cy="128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7158960" y="2109600"/>
                <a:ext cx="471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597960" y="6121800"/>
              <a:ext cx="1480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21.14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522800" y="990720"/>
            <a:ext cx="6098040" cy="4768200"/>
            <a:chOff x="1522800" y="990720"/>
            <a:chExt cx="6098040" cy="4768200"/>
          </a:xfrm>
        </p:grpSpPr>
        <p:grpSp>
          <p:nvGrpSpPr>
            <p:cNvPr id="600" name=""/>
            <p:cNvGrpSpPr/>
            <p:nvPr/>
          </p:nvGrpSpPr>
          <p:grpSpPr>
            <a:xfrm>
              <a:off x="1522800" y="990720"/>
              <a:ext cx="6098040" cy="4392720"/>
              <a:chOff x="1522800" y="990720"/>
              <a:chExt cx="6098040" cy="4392720"/>
            </a:xfrm>
          </p:grpSpPr>
          <p:pic>
            <p:nvPicPr>
              <p:cNvPr id="6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679480" y="1039680"/>
                <a:ext cx="3478320" cy="396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2" name=""/>
              <p:cNvSpPr/>
              <p:nvPr/>
            </p:nvSpPr>
            <p:spPr>
              <a:xfrm>
                <a:off x="2826360" y="3340080"/>
                <a:ext cx="20444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anslation of 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bicoid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RN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896640" y="3162240"/>
                <a:ext cx="965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ertiliz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380760" y="993600"/>
                <a:ext cx="939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urse ce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261400" y="990720"/>
                <a:ext cx="729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gg ce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115240" y="1679400"/>
                <a:ext cx="1074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bicoid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mRN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757600" y="1268280"/>
                <a:ext cx="9928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veloping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gg ce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756880" y="2305080"/>
                <a:ext cx="122292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Bicoid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mRN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 matur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nfertilized eg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286960" y="3295440"/>
                <a:ext cx="698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0 µ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744640" y="3795840"/>
                <a:ext cx="12733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icoid protein 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arly embry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950640" y="4362480"/>
                <a:ext cx="1018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nterior 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522800" y="5108400"/>
                <a:ext cx="6098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b) Gradients of </a:t>
                </a: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bic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mRNA and Bicoid protein in normal egg and early embryo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>
                <a:off x="4311000" y="1198440"/>
                <a:ext cx="38124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>
                <a:off x="4298400" y="1192320"/>
                <a:ext cx="1522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206680" y="1211400"/>
                <a:ext cx="4572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041800" y="1573200"/>
                <a:ext cx="15228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685960" y="1319040"/>
                <a:ext cx="152280" cy="152640"/>
              </a:xfrm>
              <a:prstGeom prst="flowChartConnector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685960" y="2360520"/>
                <a:ext cx="152280" cy="152640"/>
              </a:xfrm>
              <a:prstGeom prst="flowChartConnector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685960" y="3865680"/>
                <a:ext cx="152280" cy="152280"/>
              </a:xfrm>
              <a:prstGeom prst="flowChartConnector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3589200" y="5423040"/>
              <a:ext cx="1491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21.14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Segmentation Patter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ation 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 proteins that direct formation of segments after the embryo’s major body axes are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the primary research goal is to understand broad biological princip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ganism chosen for study is called a model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9160" y="5978880"/>
            <a:ext cx="1254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2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27280" y="2770200"/>
            <a:ext cx="5681160" cy="3790800"/>
            <a:chOff x="1727280" y="2770200"/>
            <a:chExt cx="5681160" cy="3790800"/>
          </a:xfrm>
        </p:grpSpPr>
        <p:grpSp>
          <p:nvGrpSpPr>
            <p:cNvPr id="182" name=""/>
            <p:cNvGrpSpPr/>
            <p:nvPr/>
          </p:nvGrpSpPr>
          <p:grpSpPr>
            <a:xfrm>
              <a:off x="1727280" y="2770200"/>
              <a:ext cx="5681160" cy="3608280"/>
              <a:chOff x="1727280" y="2770200"/>
              <a:chExt cx="5681160" cy="3608280"/>
            </a:xfrm>
          </p:grpSpPr>
          <p:sp>
            <p:nvSpPr>
              <p:cNvPr id="183" name=""/>
              <p:cNvSpPr/>
              <p:nvPr/>
            </p:nvSpPr>
            <p:spPr>
              <a:xfrm>
                <a:off x="1881360" y="2770200"/>
                <a:ext cx="21402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00"/>
                    </a:solidFill>
                    <a:latin typeface="Arial"/>
                  </a:rPr>
                  <a:t>DROSOPHILA MELANOGAS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FRUIT FLY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1727280" y="3165480"/>
                <a:ext cx="5681160" cy="3213000"/>
                <a:chOff x="1727280" y="3165480"/>
                <a:chExt cx="5681160" cy="3213000"/>
              </a:xfrm>
            </p:grpSpPr>
            <p:pic>
              <p:nvPicPr>
                <p:cNvPr id="185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27280" y="3165480"/>
                  <a:ext cx="2541240" cy="156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603680" y="5081760"/>
                  <a:ext cx="2804760" cy="117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7" name=""/>
                <p:cNvSpPr/>
                <p:nvPr/>
              </p:nvSpPr>
              <p:spPr>
                <a:xfrm>
                  <a:off x="5071320" y="4689360"/>
                  <a:ext cx="19771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AENORHABDITIS ELEGAN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(NEMATODE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879960" y="6351480"/>
                  <a:ext cx="475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879960" y="6326280"/>
                  <a:ext cx="0" cy="52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356240" y="6326280"/>
                  <a:ext cx="0" cy="52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1" name=""/>
            <p:cNvSpPr/>
            <p:nvPr/>
          </p:nvSpPr>
          <p:spPr>
            <a:xfrm>
              <a:off x="6824880" y="6346800"/>
              <a:ext cx="5828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25 m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Identity of Body Part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natomical identity o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g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et by master regulatory genes called homeotic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ummary of gene activity during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295280" y="1752480"/>
            <a:ext cx="6934320" cy="4419720"/>
            <a:chOff x="1295280" y="1752480"/>
            <a:chExt cx="6934320" cy="4419720"/>
          </a:xfrm>
        </p:grpSpPr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1295280" y="1752480"/>
              <a:ext cx="693432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1775160" y="1779120"/>
              <a:ext cx="5948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ierarchy of Gene Activity in Early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rosophila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090880" y="2294640"/>
              <a:ext cx="3998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ternal effect genes (egg-polarity gen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119320" y="3004200"/>
              <a:ext cx="1177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ap ge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116800" y="3642480"/>
              <a:ext cx="1561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ir-rule ge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086560" y="4388400"/>
              <a:ext cx="2318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gment polarity ge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111400" y="5009040"/>
              <a:ext cx="2949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meotic genes of the embry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086920" y="5783040"/>
              <a:ext cx="2597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ther genes of the embry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214600" y="2721600"/>
              <a:ext cx="150480" cy="2067480"/>
            </a:xfrm>
            <a:custGeom>
              <a:avLst/>
              <a:gdLst>
                <a:gd name="textAreaLeft" fmla="*/ 0 w 150480"/>
                <a:gd name="textAreaRight" fmla="*/ 54360 w 150480"/>
                <a:gd name="textAreaTop" fmla="*/ 53640 h 2067480"/>
                <a:gd name="textAreaBottom" fmla="*/ 2013840 h 206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75520" y="3465720"/>
              <a:ext cx="2047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gmentation ge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f the embry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C. elegans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: The Role of Cell Signaling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omplete cell lineag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each cell in the nematode roundworm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. eleg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339800" y="6248880"/>
            <a:ext cx="136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21.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2141640" y="2346120"/>
            <a:ext cx="5412600" cy="3986280"/>
            <a:chOff x="2141640" y="2346120"/>
            <a:chExt cx="5412600" cy="3986280"/>
          </a:xfrm>
        </p:grpSpPr>
        <p:pic>
          <p:nvPicPr>
            <p:cNvPr id="642" name="" descr=""/>
            <p:cNvPicPr/>
            <p:nvPr/>
          </p:nvPicPr>
          <p:blipFill>
            <a:blip r:embed="rId1"/>
            <a:stretch/>
          </p:blipFill>
          <p:spPr>
            <a:xfrm>
              <a:off x="2301840" y="2414520"/>
              <a:ext cx="5246640" cy="38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3577320" y="2346120"/>
              <a:ext cx="572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ygo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550240" y="2907360"/>
              <a:ext cx="585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rvou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stem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kin, mus-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ulat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177360" y="2920680"/>
              <a:ext cx="770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usculature,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ona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41360" y="2906640"/>
              <a:ext cx="902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uter skin,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rvous syste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27120" y="2895840"/>
              <a:ext cx="627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rm li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fut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amete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482520" y="3357360"/>
              <a:ext cx="741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usculat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44720" y="2504520"/>
              <a:ext cx="1111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rst cell divi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16200000">
              <a:off x="1491840" y="3193560"/>
              <a:ext cx="151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ime after fertilization (hour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458440" y="241092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412360" y="398268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08480" y="4070160"/>
              <a:ext cx="5875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atch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76480" y="4404960"/>
              <a:ext cx="5720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sti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698640" y="4857480"/>
              <a:ext cx="5720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sti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720600" y="531144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gg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306400" y="5319360"/>
              <a:ext cx="441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ulv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46560" y="6032160"/>
              <a:ext cx="7124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634440" y="6033960"/>
              <a:ext cx="786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STERI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699440" y="6118200"/>
              <a:ext cx="526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2 m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4073400" y="2476440"/>
              <a:ext cx="341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936960" y="5027400"/>
              <a:ext cx="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4084200" y="5249520"/>
              <a:ext cx="204840" cy="16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4095720" y="5249520"/>
              <a:ext cx="409680" cy="16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05440" y="5321160"/>
              <a:ext cx="32364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Indu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early as the four-cell stage i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. eleg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l signaling helps direct daughter cells down the appropriate pathways, a process called in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35000" y="6242400"/>
            <a:ext cx="148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21.16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2349000" y="2286000"/>
            <a:ext cx="4094280" cy="4011480"/>
            <a:chOff x="2349000" y="2286000"/>
            <a:chExt cx="4094280" cy="4011480"/>
          </a:xfrm>
        </p:grpSpPr>
        <p:sp>
          <p:nvSpPr>
            <p:cNvPr id="670" name=""/>
            <p:cNvSpPr/>
            <p:nvPr/>
          </p:nvSpPr>
          <p:spPr>
            <a:xfrm>
              <a:off x="4474800" y="337824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1" name="" descr=""/>
            <p:cNvPicPr/>
            <p:nvPr/>
          </p:nvPicPr>
          <p:blipFill>
            <a:blip r:embed="rId1"/>
            <a:stretch/>
          </p:blipFill>
          <p:spPr>
            <a:xfrm>
              <a:off x="2590920" y="2286000"/>
              <a:ext cx="366876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3130560" y="28036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184920" y="3127320"/>
              <a:ext cx="73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MBRY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826160" y="2629080"/>
              <a:ext cx="690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steri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028480" y="2968560"/>
              <a:ext cx="698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cep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14640" y="2838600"/>
              <a:ext cx="570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69400" y="3932280"/>
              <a:ext cx="533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ig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842200" y="4427640"/>
              <a:ext cx="68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ugh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ell of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21360" y="4451400"/>
              <a:ext cx="6908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steri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ugh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ell of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292920" y="5157720"/>
              <a:ext cx="909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ll go on 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rm muscl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d gon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55720" y="5157720"/>
              <a:ext cx="8769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ll go on 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rm adul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st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 flipV="1">
              <a:off x="5486040" y="3200400"/>
              <a:ext cx="1522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5715000" y="3200400"/>
              <a:ext cx="3049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880800" y="273384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266720" y="257796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39680" y="28558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217400" y="29242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960440" y="3298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2349000" y="6049800"/>
              <a:ext cx="4094280" cy="247680"/>
              <a:chOff x="2349000" y="6049800"/>
              <a:chExt cx="4094280" cy="247680"/>
            </a:xfrm>
          </p:grpSpPr>
          <p:sp>
            <p:nvSpPr>
              <p:cNvPr id="690" name=""/>
              <p:cNvSpPr/>
              <p:nvPr/>
            </p:nvSpPr>
            <p:spPr>
              <a:xfrm>
                <a:off x="2535120" y="6052680"/>
                <a:ext cx="39081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nduction of the intestinal precursor cell at the four-cell stage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349000" y="6049800"/>
                <a:ext cx="3405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ction is also critical later in nematode develop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embryo passes through three larval stages prior to becoming an ad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2084040" y="2751120"/>
            <a:ext cx="4946760" cy="3840480"/>
            <a:chOff x="2084040" y="2751120"/>
            <a:chExt cx="4946760" cy="3840480"/>
          </a:xfrm>
        </p:grpSpPr>
        <p:sp>
          <p:nvSpPr>
            <p:cNvPr id="695" name=""/>
            <p:cNvSpPr/>
            <p:nvPr/>
          </p:nvSpPr>
          <p:spPr>
            <a:xfrm>
              <a:off x="2084040" y="6045480"/>
              <a:ext cx="1491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21.16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3635280" y="2751120"/>
              <a:ext cx="3395520" cy="3840480"/>
              <a:chOff x="3635280" y="2751120"/>
              <a:chExt cx="3395520" cy="3840480"/>
            </a:xfrm>
          </p:grpSpPr>
          <p:pic>
            <p:nvPicPr>
              <p:cNvPr id="69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5280" y="2819520"/>
                <a:ext cx="3360960" cy="3429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8" name=""/>
              <p:cNvGrpSpPr/>
              <p:nvPr/>
            </p:nvGrpSpPr>
            <p:grpSpPr>
              <a:xfrm>
                <a:off x="3683160" y="2751120"/>
                <a:ext cx="3347640" cy="3840480"/>
                <a:chOff x="3683160" y="2751120"/>
                <a:chExt cx="3347640" cy="384048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4145760" y="2751120"/>
                  <a:ext cx="745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pidermi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264640" y="3186000"/>
                  <a:ext cx="5644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ona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713560" y="3186000"/>
                  <a:ext cx="8100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nchor cel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397200" y="3021120"/>
                  <a:ext cx="57060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ign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otei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538960" y="4187880"/>
                  <a:ext cx="13874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Vulval precursor cell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389920" y="4861080"/>
                  <a:ext cx="8038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Inner vulv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198120" y="4718160"/>
                  <a:ext cx="8326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uter vulv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207840" y="5911920"/>
                  <a:ext cx="745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pidermi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3683160" y="4811760"/>
                  <a:ext cx="599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DUL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5583240" y="3384720"/>
                  <a:ext cx="415800" cy="425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040440" y="3384720"/>
                  <a:ext cx="339840" cy="349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H="1">
                  <a:off x="6379920" y="3384720"/>
                  <a:ext cx="269640" cy="501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961240" y="5073480"/>
                  <a:ext cx="218880" cy="303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V="1">
                  <a:off x="6446880" y="4908600"/>
                  <a:ext cx="127080" cy="642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684840" y="5562720"/>
                  <a:ext cx="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4" name=""/>
                <p:cNvGrpSpPr/>
                <p:nvPr/>
              </p:nvGrpSpPr>
              <p:grpSpPr>
                <a:xfrm>
                  <a:off x="3769920" y="6188040"/>
                  <a:ext cx="2916720" cy="403560"/>
                  <a:chOff x="3769920" y="6188040"/>
                  <a:chExt cx="2916720" cy="403560"/>
                </a:xfrm>
              </p:grpSpPr>
              <p:sp>
                <p:nvSpPr>
                  <p:cNvPr id="715" name=""/>
                  <p:cNvSpPr/>
                  <p:nvPr/>
                </p:nvSpPr>
                <p:spPr>
                  <a:xfrm>
                    <a:off x="3976200" y="6194520"/>
                    <a:ext cx="271044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duction of vulval cell types during larva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evelopment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3769920" y="6188040"/>
                    <a:ext cx="34812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(b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7" name=""/>
                <p:cNvSpPr/>
                <p:nvPr/>
              </p:nvSpPr>
              <p:spPr>
                <a:xfrm>
                  <a:off x="4764240" y="2948040"/>
                  <a:ext cx="228600" cy="15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inducing signal produced by one cell in the embry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nitiate a chain of inductions that results in the formation of a particular 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Programmed Cell Death (Apoptosis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popt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l signaling is involved in programmed cell dea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711360" y="1943280"/>
            <a:ext cx="8153280" cy="4580640"/>
            <a:chOff x="711360" y="1943280"/>
            <a:chExt cx="8153280" cy="4580640"/>
          </a:xfrm>
        </p:grpSpPr>
        <p:grpSp>
          <p:nvGrpSpPr>
            <p:cNvPr id="723" name=""/>
            <p:cNvGrpSpPr/>
            <p:nvPr/>
          </p:nvGrpSpPr>
          <p:grpSpPr>
            <a:xfrm>
              <a:off x="711360" y="1943280"/>
              <a:ext cx="8153280" cy="4580640"/>
              <a:chOff x="711360" y="1943280"/>
              <a:chExt cx="8153280" cy="4580640"/>
            </a:xfrm>
          </p:grpSpPr>
          <p:pic>
            <p:nvPicPr>
              <p:cNvPr id="72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11360" y="1943280"/>
                <a:ext cx="8153280" cy="44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5" name=""/>
              <p:cNvSpPr/>
              <p:nvPr/>
            </p:nvSpPr>
            <p:spPr>
              <a:xfrm>
                <a:off x="8196480" y="6188040"/>
                <a:ext cx="640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 µ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3876120" y="5975640"/>
              <a:ext cx="1367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21.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. elega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protein in the outer mitochondrial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s as a master regulator of apopto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06720" y="2398680"/>
            <a:ext cx="5989320" cy="3957480"/>
            <a:chOff x="306720" y="2398680"/>
            <a:chExt cx="5989320" cy="3957480"/>
          </a:xfrm>
        </p:grpSpPr>
        <p:pic>
          <p:nvPicPr>
            <p:cNvPr id="730" name="" descr=""/>
            <p:cNvPicPr/>
            <p:nvPr/>
          </p:nvPicPr>
          <p:blipFill>
            <a:blip r:embed="rId1"/>
            <a:stretch/>
          </p:blipFill>
          <p:spPr>
            <a:xfrm>
              <a:off x="3481560" y="2398680"/>
              <a:ext cx="2570040" cy="35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2849040" y="2440800"/>
              <a:ext cx="8600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ed-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tein (active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inhibits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Ced-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tiv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84600" y="2444760"/>
              <a:ext cx="825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979720" y="3477240"/>
              <a:ext cx="5583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a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cept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227840" y="3305160"/>
              <a:ext cx="460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ed-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659840" y="3305160"/>
              <a:ext cx="460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ed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252320" y="3522600"/>
              <a:ext cx="930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active protei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36920" y="2911320"/>
              <a:ext cx="1089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3412800" y="3254400"/>
              <a:ext cx="4762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6200000">
              <a:off x="4612320" y="3120120"/>
              <a:ext cx="114480" cy="817560"/>
            </a:xfrm>
            <a:custGeom>
              <a:avLst/>
              <a:gdLst>
                <a:gd name="textAreaLeft" fmla="*/ 73080 w 114480"/>
                <a:gd name="textAreaRight" fmla="*/ 114840 w 114480"/>
                <a:gd name="textAreaTop" fmla="*/ 21240 h 817560"/>
                <a:gd name="textAreaBottom" fmla="*/ 7963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4991040" y="2654280"/>
              <a:ext cx="0" cy="11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963080" y="4033800"/>
              <a:ext cx="1319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a) No death sig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70960" y="3992760"/>
              <a:ext cx="599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ed-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inactive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855040" y="3715200"/>
              <a:ext cx="441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or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leb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337200" y="4366080"/>
              <a:ext cx="45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a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103640" y="4877280"/>
              <a:ext cx="465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ed-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527360" y="4867560"/>
              <a:ext cx="465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ed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442040" y="5350320"/>
              <a:ext cx="630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tiv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sca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238720" y="4847040"/>
              <a:ext cx="63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teas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41240" y="5257800"/>
              <a:ext cx="6620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ucleas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972800" y="5538960"/>
              <a:ext cx="1136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b) Death sig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3576600" y="4687920"/>
              <a:ext cx="0" cy="171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4403880" y="4334040"/>
              <a:ext cx="1440" cy="42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5478480" y="3841920"/>
              <a:ext cx="407880" cy="34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06720" y="6020280"/>
              <a:ext cx="171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21.18a,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ertebrat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optosis is essential for normal morphogenesis of hands and feet in humans and paws in other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2280" y="2895840"/>
            <a:ext cx="8915400" cy="2736360"/>
            <a:chOff x="152280" y="2895840"/>
            <a:chExt cx="8915400" cy="2736360"/>
          </a:xfrm>
        </p:grpSpPr>
        <p:sp>
          <p:nvSpPr>
            <p:cNvPr id="758" name=""/>
            <p:cNvSpPr/>
            <p:nvPr/>
          </p:nvSpPr>
          <p:spPr>
            <a:xfrm>
              <a:off x="4041360" y="5296320"/>
              <a:ext cx="1367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21.1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152280" y="2895840"/>
              <a:ext cx="8915400" cy="2501280"/>
              <a:chOff x="152280" y="2895840"/>
              <a:chExt cx="8915400" cy="2501280"/>
            </a:xfrm>
          </p:grpSpPr>
          <p:pic>
            <p:nvPicPr>
              <p:cNvPr id="76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3505320"/>
                <a:ext cx="8915400" cy="147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1" name=""/>
              <p:cNvSpPr/>
              <p:nvPr/>
            </p:nvSpPr>
            <p:spPr>
              <a:xfrm>
                <a:off x="1243440" y="2895840"/>
                <a:ext cx="1710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terdigital tissu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1549080" y="3200040"/>
                <a:ext cx="304920" cy="762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254800" y="5105520"/>
                <a:ext cx="685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254800" y="5067360"/>
                <a:ext cx="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940600" y="5060880"/>
                <a:ext cx="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8266320" y="5061240"/>
                <a:ext cx="6926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 m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lant Development: Cell Signaling and Transcriptional Regu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nks to DNA technology and clues from animal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research is now progressing rapi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04920" y="1066680"/>
            <a:ext cx="8229600" cy="4638600"/>
            <a:chOff x="304920" y="1066680"/>
            <a:chExt cx="8229600" cy="463860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304920" y="1490400"/>
              <a:ext cx="2286000" cy="20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3353040" y="4162320"/>
              <a:ext cx="236232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3"/>
            <a:stretch/>
          </p:blipFill>
          <p:spPr>
            <a:xfrm>
              <a:off x="6477120" y="1495080"/>
              <a:ext cx="20574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790200" y="1069560"/>
              <a:ext cx="1216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US MUSCUL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MOUS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12200" y="3746160"/>
              <a:ext cx="1029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ANIO RER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ZEBRAFISH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77280" y="1066680"/>
              <a:ext cx="1738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ARABIDOPSIS THAMA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COMMON WALL CRES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Mechanisms of Plant Develop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2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general, cell line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much less important for pattern formation in plants than in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mbryonic development of most pl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inside the s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Pattern Formation in Flowe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oral meri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three cell types that affect flowe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251280" y="2426040"/>
            <a:ext cx="8727480" cy="3561480"/>
            <a:chOff x="251280" y="2426040"/>
            <a:chExt cx="8727480" cy="3561480"/>
          </a:xfrm>
        </p:grpSpPr>
        <p:sp>
          <p:nvSpPr>
            <p:cNvPr id="774" name=""/>
            <p:cNvSpPr/>
            <p:nvPr/>
          </p:nvSpPr>
          <p:spPr>
            <a:xfrm>
              <a:off x="3736440" y="5651640"/>
              <a:ext cx="1367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21.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251280" y="2426040"/>
              <a:ext cx="8727480" cy="3060000"/>
              <a:chOff x="251280" y="2426040"/>
              <a:chExt cx="8727480" cy="3060000"/>
            </a:xfrm>
          </p:grpSpPr>
          <p:pic>
            <p:nvPicPr>
              <p:cNvPr id="7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25480" y="2635200"/>
                <a:ext cx="8153280" cy="25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7" name=""/>
              <p:cNvSpPr/>
              <p:nvPr/>
            </p:nvSpPr>
            <p:spPr>
              <a:xfrm>
                <a:off x="4635000" y="2426040"/>
                <a:ext cx="78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arp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499720" y="2876760"/>
                <a:ext cx="6483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et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797280" y="2559240"/>
                <a:ext cx="884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tam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273640" y="4470840"/>
                <a:ext cx="704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p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950640" y="5150160"/>
                <a:ext cx="1978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natomy of a flow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31960" y="5131080"/>
                <a:ext cx="15840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loral meriste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074720" y="5150160"/>
                <a:ext cx="1469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omato flow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51280" y="3705840"/>
                <a:ext cx="7275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laye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4870440" y="2749320"/>
                <a:ext cx="22860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 flipV="1">
                <a:off x="4483080" y="2869920"/>
                <a:ext cx="7632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5314680" y="316872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473800" y="4159080"/>
                <a:ext cx="15228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 flipV="1">
                <a:off x="1358640" y="3701880"/>
                <a:ext cx="476280" cy="317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 flipV="1">
                <a:off x="1352160" y="3860640"/>
                <a:ext cx="412920" cy="279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002960" y="3518280"/>
                <a:ext cx="410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L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009080" y="3702240"/>
                <a:ext cx="410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L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015560" y="3886560"/>
                <a:ext cx="410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L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 flipV="1">
                <a:off x="1378080" y="4057200"/>
                <a:ext cx="38088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977760" y="3587760"/>
                <a:ext cx="76320" cy="60948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omato plants with a mutant alle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been studied in order to understand the genetic mechanisms behind flower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2275920" y="2286000"/>
            <a:ext cx="4442400" cy="4235040"/>
            <a:chOff x="2275920" y="2286000"/>
            <a:chExt cx="4442400" cy="4235040"/>
          </a:xfrm>
        </p:grpSpPr>
        <p:grpSp>
          <p:nvGrpSpPr>
            <p:cNvPr id="799" name=""/>
            <p:cNvGrpSpPr/>
            <p:nvPr/>
          </p:nvGrpSpPr>
          <p:grpSpPr>
            <a:xfrm>
              <a:off x="2275920" y="2286000"/>
              <a:ext cx="4442400" cy="4235040"/>
              <a:chOff x="2275920" y="2286000"/>
              <a:chExt cx="4442400" cy="4235040"/>
            </a:xfrm>
          </p:grpSpPr>
          <p:sp>
            <p:nvSpPr>
              <p:cNvPr id="800" name=""/>
              <p:cNvSpPr/>
              <p:nvPr/>
            </p:nvSpPr>
            <p:spPr>
              <a:xfrm>
                <a:off x="2275920" y="6185160"/>
                <a:ext cx="13676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Figure 21.2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1" name=""/>
              <p:cNvGrpSpPr/>
              <p:nvPr/>
            </p:nvGrpSpPr>
            <p:grpSpPr>
              <a:xfrm>
                <a:off x="3657600" y="2286000"/>
                <a:ext cx="3060720" cy="4192560"/>
                <a:chOff x="3657600" y="2286000"/>
                <a:chExt cx="3060720" cy="4192560"/>
              </a:xfrm>
            </p:grpSpPr>
            <p:pic>
              <p:nvPicPr>
                <p:cNvPr id="80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24200" y="2600280"/>
                  <a:ext cx="2994120" cy="113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3829680" y="3732840"/>
                  <a:ext cx="254412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esearchers grafted stems from mutant plants onto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wild-type plants. They then planted the shoots that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emerged near the graft  site, many of which were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imeras.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0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657600" y="4251240"/>
                  <a:ext cx="2994120" cy="19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5" name=""/>
                <p:cNvSpPr/>
                <p:nvPr/>
              </p:nvSpPr>
              <p:spPr>
                <a:xfrm>
                  <a:off x="4911840" y="2598480"/>
                  <a:ext cx="445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pa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4924080" y="2768400"/>
                  <a:ext cx="418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eta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4913280" y="2968560"/>
                  <a:ext cx="4838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arpe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4906800" y="3128760"/>
                  <a:ext cx="537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tame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997800" y="3403800"/>
                  <a:ext cx="610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Wild-typ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orma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758200" y="3403800"/>
                  <a:ext cx="7822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Fasciated (</a:t>
                  </a: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ff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extra organ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3666600" y="5445000"/>
                  <a:ext cx="4122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raf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968080" y="6024600"/>
                  <a:ext cx="6210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imera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4444920" y="2692440"/>
                  <a:ext cx="517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flipH="1">
                  <a:off x="5312880" y="2703240"/>
                  <a:ext cx="574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4464000" y="2854080"/>
                  <a:ext cx="517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H="1">
                  <a:off x="5308560" y="2889000"/>
                  <a:ext cx="574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4305240" y="2968560"/>
                  <a:ext cx="633600" cy="120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 flipH="1">
                  <a:off x="5336640" y="3014640"/>
                  <a:ext cx="806760" cy="60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flipH="1">
                  <a:off x="5384520" y="3070080"/>
                  <a:ext cx="633240" cy="18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4381560" y="3058920"/>
                  <a:ext cx="576360" cy="18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667320" y="5655960"/>
                  <a:ext cx="220428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For each chimera, researchers recorded the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flower phenotype: wild-type or fasciated.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alysis using other genetic marker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dentified the parental source for each of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he three cell layers of the floral meristem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L1–L3) in the chimeras.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689280" y="2303280"/>
                  <a:ext cx="278172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omato plants with the </a:t>
                  </a: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fasciated (ff_x001d_)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utation develop extra floral organs.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3772080" y="2286000"/>
                  <a:ext cx="863280" cy="1807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EXPERIM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24" name=""/>
            <p:cNvSpPr/>
            <p:nvPr/>
          </p:nvSpPr>
          <p:spPr>
            <a:xfrm flipH="1">
              <a:off x="4038480" y="5316480"/>
              <a:ext cx="254160" cy="16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2040840" y="1092240"/>
            <a:ext cx="5456520" cy="4635720"/>
            <a:chOff x="2040840" y="1092240"/>
            <a:chExt cx="5456520" cy="4635720"/>
          </a:xfrm>
        </p:grpSpPr>
        <p:pic>
          <p:nvPicPr>
            <p:cNvPr id="827" name="" descr=""/>
            <p:cNvPicPr/>
            <p:nvPr/>
          </p:nvPicPr>
          <p:blipFill>
            <a:blip r:embed="rId1"/>
            <a:stretch/>
          </p:blipFill>
          <p:spPr>
            <a:xfrm>
              <a:off x="2146320" y="1538280"/>
              <a:ext cx="3639960" cy="32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"/>
            <p:cNvSpPr/>
            <p:nvPr/>
          </p:nvSpPr>
          <p:spPr>
            <a:xfrm>
              <a:off x="2286000" y="1092240"/>
              <a:ext cx="1028880" cy="2588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ESUL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146320" y="5041800"/>
              <a:ext cx="1206360" cy="268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NCLU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275200" y="1092240"/>
              <a:ext cx="4714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flowers of the chimeric plants had the fasciat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enotype only when the L3 layer came from the fasciated paren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040840" y="5087880"/>
              <a:ext cx="54565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lls in the L3 layer induce the L1 and L2 layers to for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owers with a particular number of organs. (The nature of the inductive sign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m L3 is not entirely understood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31080" y="2038320"/>
              <a:ext cx="999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ild-type (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430360" y="2209680"/>
              <a:ext cx="1026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sciated (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933000" y="2044800"/>
              <a:ext cx="8114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o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ri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751640" y="1542960"/>
              <a:ext cx="355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4940280" y="178416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954680" y="1595520"/>
              <a:ext cx="355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180040" y="1695240"/>
              <a:ext cx="355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5041800" y="1841400"/>
              <a:ext cx="7632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5118120" y="191736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633400" y="1758960"/>
              <a:ext cx="465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157480" y="2743200"/>
              <a:ext cx="8204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ild-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141280" y="2502000"/>
              <a:ext cx="558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998440" y="2495520"/>
              <a:ext cx="677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low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629880" y="2502000"/>
              <a:ext cx="965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534920" y="2508120"/>
              <a:ext cx="1314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loral Meri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23280" y="3714840"/>
              <a:ext cx="889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imera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118600" y="4059360"/>
              <a:ext cx="889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imera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135880" y="4370400"/>
              <a:ext cx="889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imera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702240" y="2897280"/>
              <a:ext cx="820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ild-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688560" y="3322440"/>
              <a:ext cx="848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sci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686760" y="3767040"/>
              <a:ext cx="848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sci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686760" y="4089240"/>
              <a:ext cx="848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sci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702240" y="4440240"/>
              <a:ext cx="820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ild-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270240" y="2030400"/>
              <a:ext cx="235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289320" y="2195640"/>
              <a:ext cx="235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7" name=""/>
            <p:cNvGrpSpPr/>
            <p:nvPr/>
          </p:nvGrpSpPr>
          <p:grpSpPr>
            <a:xfrm>
              <a:off x="2144520" y="3187800"/>
              <a:ext cx="1113480" cy="457560"/>
              <a:chOff x="2144520" y="3187800"/>
              <a:chExt cx="1113480" cy="457560"/>
            </a:xfrm>
          </p:grpSpPr>
          <p:sp>
            <p:nvSpPr>
              <p:cNvPr id="858" name=""/>
              <p:cNvSpPr/>
              <p:nvPr/>
            </p:nvSpPr>
            <p:spPr>
              <a:xfrm>
                <a:off x="2144520" y="3187800"/>
                <a:ext cx="10263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asciated 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f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ar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022560" y="3187800"/>
                <a:ext cx="2354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 identity 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type of structure that will grow from a meri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nalogous to homeotic genes in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381960" y="3403440"/>
            <a:ext cx="6704640" cy="2958840"/>
            <a:chOff x="381960" y="3403440"/>
            <a:chExt cx="6704640" cy="2958840"/>
          </a:xfrm>
        </p:grpSpPr>
        <p:sp>
          <p:nvSpPr>
            <p:cNvPr id="863" name=""/>
            <p:cNvSpPr/>
            <p:nvPr/>
          </p:nvSpPr>
          <p:spPr>
            <a:xfrm>
              <a:off x="381960" y="6026400"/>
              <a:ext cx="1367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21.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4" name="" descr=""/>
            <p:cNvPicPr/>
            <p:nvPr/>
          </p:nvPicPr>
          <p:blipFill>
            <a:blip r:embed="rId1"/>
            <a:stretch/>
          </p:blipFill>
          <p:spPr>
            <a:xfrm>
              <a:off x="1828800" y="3403440"/>
              <a:ext cx="5257800" cy="24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5" name=""/>
            <p:cNvSpPr/>
            <p:nvPr/>
          </p:nvSpPr>
          <p:spPr>
            <a:xfrm>
              <a:off x="2565360" y="5943600"/>
              <a:ext cx="863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ild 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28160" y="5943600"/>
              <a:ext cx="683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ut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21.4: Comparative studies help explain how the evolution of development leads to morphological divers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logists in the field of evolutionary developmental biology, or “evo-devo,” as it is often call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developmental processes of different multicellular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Widespread Conservation of Developmental Genes Among Animal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lecular analysis of the homeotic genes i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rosophi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shown that they all include a sequence called a homeo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n identical or very similar nucleotide seque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been discovered in the homeotic genes of both vertebrates and inverteb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2198160" y="2311560"/>
            <a:ext cx="4354560" cy="4215960"/>
            <a:chOff x="2198160" y="2311560"/>
            <a:chExt cx="4354560" cy="4215960"/>
          </a:xfrm>
        </p:grpSpPr>
        <p:sp>
          <p:nvSpPr>
            <p:cNvPr id="874" name=""/>
            <p:cNvSpPr/>
            <p:nvPr/>
          </p:nvSpPr>
          <p:spPr>
            <a:xfrm>
              <a:off x="2198160" y="6191640"/>
              <a:ext cx="1367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21.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3632040" y="2311560"/>
              <a:ext cx="2920680" cy="4140000"/>
              <a:chOff x="3632040" y="2311560"/>
              <a:chExt cx="2920680" cy="4140000"/>
            </a:xfrm>
          </p:grpSpPr>
          <p:pic>
            <p:nvPicPr>
              <p:cNvPr id="8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50400" y="2311560"/>
                <a:ext cx="2902320" cy="414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3632040" y="2535120"/>
                <a:ext cx="5569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dul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uit fl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84960" y="3001320"/>
                <a:ext cx="183960" cy="4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4560" y="3214800"/>
                <a:ext cx="10566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uit fly embry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10 hour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50400" y="3637440"/>
                <a:ext cx="9165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l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romoso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32400" y="4156200"/>
                <a:ext cx="98064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us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romosom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610880" y="4165200"/>
                <a:ext cx="64080" cy="555840"/>
              </a:xfrm>
              <a:custGeom>
                <a:avLst/>
                <a:gdLst>
                  <a:gd name="textAreaLeft" fmla="*/ 41040 w 64080"/>
                  <a:gd name="textAreaRight" fmla="*/ 64440 w 64080"/>
                  <a:gd name="textAreaTop" fmla="*/ 14400 h 555840"/>
                  <a:gd name="textAreaBottom" fmla="*/ 541440 h 55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32400" y="4831920"/>
                <a:ext cx="102168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use embry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12 day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39600" y="5957280"/>
                <a:ext cx="8859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dult mou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6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ed genetic sequ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been found in regulatory genes of yeasts, plants, and even pro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ddition to developmental 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ther genes involved in development are highly conserved from species to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some c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changes in regulatory sequences of particular genes can lead to major changes in body form, as in crustaceans and ins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458280" y="2743200"/>
            <a:ext cx="7313760" cy="3735360"/>
            <a:chOff x="458280" y="2743200"/>
            <a:chExt cx="7313760" cy="3735360"/>
          </a:xfrm>
        </p:grpSpPr>
        <p:grpSp>
          <p:nvGrpSpPr>
            <p:cNvPr id="890" name=""/>
            <p:cNvGrpSpPr/>
            <p:nvPr/>
          </p:nvGrpSpPr>
          <p:grpSpPr>
            <a:xfrm>
              <a:off x="1752480" y="2743200"/>
              <a:ext cx="6019560" cy="3735360"/>
              <a:chOff x="1752480" y="2743200"/>
              <a:chExt cx="6019560" cy="3735360"/>
            </a:xfrm>
          </p:grpSpPr>
          <p:pic>
            <p:nvPicPr>
              <p:cNvPr id="89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52480" y="3291120"/>
                <a:ext cx="6019560" cy="31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2" name=""/>
              <p:cNvSpPr/>
              <p:nvPr/>
            </p:nvSpPr>
            <p:spPr>
              <a:xfrm>
                <a:off x="3200040" y="2935440"/>
                <a:ext cx="660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hora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58160" y="2743200"/>
                <a:ext cx="8481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nit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eg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918040" y="2919600"/>
                <a:ext cx="840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bdom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354120" y="4576680"/>
                <a:ext cx="660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hora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609800" y="4576680"/>
                <a:ext cx="840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bdom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5400000">
                <a:off x="3449520" y="2304000"/>
                <a:ext cx="54000" cy="1817640"/>
              </a:xfrm>
              <a:custGeom>
                <a:avLst/>
                <a:gdLst>
                  <a:gd name="textAreaLeft" fmla="*/ 34560 w 54000"/>
                  <a:gd name="textAreaRight" fmla="*/ 54360 w 54000"/>
                  <a:gd name="textAreaTop" fmla="*/ 47160 h 1817640"/>
                  <a:gd name="textAreaBottom" fmla="*/ 1770480 h 181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5400000">
                <a:off x="4739040" y="2873880"/>
                <a:ext cx="87480" cy="711360"/>
              </a:xfrm>
              <a:custGeom>
                <a:avLst/>
                <a:gdLst>
                  <a:gd name="textAreaLeft" fmla="*/ 55800 w 87480"/>
                  <a:gd name="textAreaRight" fmla="*/ 87480 w 87480"/>
                  <a:gd name="textAreaTop" fmla="*/ 18360 h 711360"/>
                  <a:gd name="textAreaBottom" fmla="*/ 693000 h 71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5400000">
                <a:off x="6317640" y="2069640"/>
                <a:ext cx="87480" cy="2319480"/>
              </a:xfrm>
              <a:custGeom>
                <a:avLst/>
                <a:gdLst>
                  <a:gd name="textAreaLeft" fmla="*/ 55800 w 87480"/>
                  <a:gd name="textAreaRight" fmla="*/ 87480 w 87480"/>
                  <a:gd name="textAreaTop" fmla="*/ 60480 h 2319480"/>
                  <a:gd name="textAreaBottom" fmla="*/ 2259000 h 231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5400000">
                <a:off x="3701520" y="4378320"/>
                <a:ext cx="52200" cy="941400"/>
              </a:xfrm>
              <a:custGeom>
                <a:avLst/>
                <a:gdLst>
                  <a:gd name="textAreaLeft" fmla="*/ 33480 w 52200"/>
                  <a:gd name="textAreaRight" fmla="*/ 52560 w 52200"/>
                  <a:gd name="textAreaTop" fmla="*/ 24480 h 941400"/>
                  <a:gd name="textAreaBottom" fmla="*/ 916920 h 941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5400000">
                <a:off x="5035320" y="4040280"/>
                <a:ext cx="92160" cy="1619280"/>
              </a:xfrm>
              <a:custGeom>
                <a:avLst/>
                <a:gdLst>
                  <a:gd name="textAreaLeft" fmla="*/ 59040 w 92160"/>
                  <a:gd name="textAreaRight" fmla="*/ 92520 w 92160"/>
                  <a:gd name="textAreaTop" fmla="*/ 42120 h 1619280"/>
                  <a:gd name="textAreaBottom" fmla="*/ 1577160 h 161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2" name=""/>
            <p:cNvSpPr/>
            <p:nvPr/>
          </p:nvSpPr>
          <p:spPr>
            <a:xfrm>
              <a:off x="458280" y="6096240"/>
              <a:ext cx="1367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21.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21.1: Embryonic development involves cell division, cell differentiation, and morphogene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embryonic development of most organis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ngle-celled zygote gives rise to cells of many different types, each with a different structure and corresponding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other c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s with conserved sequences play different roles in the development of different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pl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obox-containing genes do not function in pattern formation as they do in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mparison of Animal and Plant Develop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both plants and anim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relies on a cascade of transcriptional regulators turning genes on or off in a finely tuned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e genes that direct analogous developmental pro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 considerably in sequence in plants and animals, as a result of their remote ance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ransformation from a zygote into an organ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from three interrelated processes: cell division, cell differentiation, and morph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513440" y="3276720"/>
            <a:ext cx="6182640" cy="3200040"/>
            <a:chOff x="1513440" y="3276720"/>
            <a:chExt cx="6182640" cy="3200040"/>
          </a:xfrm>
        </p:grpSpPr>
        <p:sp>
          <p:nvSpPr>
            <p:cNvPr id="205" name=""/>
            <p:cNvSpPr/>
            <p:nvPr/>
          </p:nvSpPr>
          <p:spPr>
            <a:xfrm>
              <a:off x="1513440" y="6140880"/>
              <a:ext cx="1603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21.3a,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840760" y="3276720"/>
              <a:ext cx="4855320" cy="3174120"/>
              <a:chOff x="2840760" y="3276720"/>
              <a:chExt cx="4855320" cy="3174120"/>
            </a:xfrm>
          </p:grpSpPr>
          <p:pic>
            <p:nvPicPr>
              <p:cNvPr id="20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03440" y="3276720"/>
                <a:ext cx="4292640" cy="2676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8" name=""/>
              <p:cNvGrpSpPr/>
              <p:nvPr/>
            </p:nvGrpSpPr>
            <p:grpSpPr>
              <a:xfrm>
                <a:off x="2840760" y="5927040"/>
                <a:ext cx="4655880" cy="523800"/>
                <a:chOff x="2840760" y="5927040"/>
                <a:chExt cx="4655880" cy="5238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2840760" y="5932080"/>
                  <a:ext cx="266760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(a) Fertilized eggs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f a fro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511600" y="5927040"/>
                  <a:ext cx="19850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(b) Tadpole hatching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rom eg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5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ugh a succession of mitotic cell divi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zygote gives rise to a large number of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cell differenti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become specialized in structure and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phogenesis encompasses the pro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give shape to the organism and its various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14"/>
              </a:spcBef>
              <a:spcAft>
                <a:spcPts val="67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three processes of development overlap in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5280" y="1128600"/>
            <a:ext cx="8614800" cy="5379840"/>
            <a:chOff x="305280" y="1128600"/>
            <a:chExt cx="8614800" cy="5379840"/>
          </a:xfrm>
        </p:grpSpPr>
        <p:sp>
          <p:nvSpPr>
            <p:cNvPr id="216" name=""/>
            <p:cNvSpPr/>
            <p:nvPr/>
          </p:nvSpPr>
          <p:spPr>
            <a:xfrm>
              <a:off x="3883680" y="6172560"/>
              <a:ext cx="1603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21.4a,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305280" y="1128600"/>
              <a:ext cx="8614800" cy="5263200"/>
              <a:chOff x="305280" y="1128600"/>
              <a:chExt cx="8614800" cy="5263200"/>
            </a:xfrm>
          </p:grpSpPr>
          <p:pic>
            <p:nvPicPr>
              <p:cNvPr id="21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8920" y="1438200"/>
                <a:ext cx="7391160" cy="472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545400" y="1144440"/>
                <a:ext cx="2609640" cy="24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nimal development.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Mos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nimals go through so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riation of the blastula an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astrula stages. The blastula i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 sphere of cells surrounding 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luid-filled cavity. The gastrul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orms when a region of the blastul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olds inward, creating 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ube—a rudimentary gut. O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he animal is mature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ifferentiation occurs in only 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imited way—for the replacemen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f damaged or lost cell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9920" y="3909960"/>
                <a:ext cx="2355120" cy="24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lant development.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In plant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ith seeds, a complete embryo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velops within the  seed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orphogenesis, which involve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ell division and cell wall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xpansion rather than cell o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issue movement, occur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hroughout the plant’s lifetime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pical meristems (purple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ntinuously arise and develo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o the various plant organs a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he plant grows to a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determinate siz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274920" y="2657520"/>
                <a:ext cx="11527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Zygo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fertilized egg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548960" y="2657520"/>
                <a:ext cx="881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ight ce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492520" y="2657520"/>
                <a:ext cx="12196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lastul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cross section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678360" y="2657520"/>
                <a:ext cx="11772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astrul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cross section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821360" y="2657520"/>
                <a:ext cx="10263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dult anim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sea star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30360" y="1438200"/>
                <a:ext cx="8982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ov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965280" y="1299960"/>
                <a:ext cx="432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060800" y="3292560"/>
                <a:ext cx="999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Cell divi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477040" y="3573360"/>
                <a:ext cx="1230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orphogenes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423480" y="3865680"/>
                <a:ext cx="2199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Observable cell differenti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162120" y="4105440"/>
                <a:ext cx="6271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e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v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347960" y="4486320"/>
                <a:ext cx="81144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pic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riste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395480" y="5364000"/>
                <a:ext cx="81144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pic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riste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169120" y="6062760"/>
                <a:ext cx="5338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la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669720" y="5934240"/>
                <a:ext cx="9594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mbry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side se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651560" y="5871960"/>
                <a:ext cx="863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wo cell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205080" y="5705640"/>
                <a:ext cx="11527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Zygo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fertilized egg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7148520" y="1590840"/>
                <a:ext cx="76320" cy="76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634080" y="4257720"/>
                <a:ext cx="53352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 flipV="1">
                <a:off x="6633720" y="4257360"/>
                <a:ext cx="2286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008840" y="4625640"/>
                <a:ext cx="3808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7897680" y="46576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015320" y="5337000"/>
                <a:ext cx="45720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948440" y="5699160"/>
                <a:ext cx="3049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13920" y="1128600"/>
                <a:ext cx="370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5280" y="3894120"/>
                <a:ext cx="378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cmassengale</cp:lastModifiedBy>
  <cp:lastPrinted>2004-11-23T18:32:04Z</cp:lastPrinted>
  <dcterms:modified xsi:type="dcterms:W3CDTF">2006-08-17T13:17:47Z</dcterms:modified>
  <cp:revision>852</cp:revision>
  <dc:subject/>
  <dc:title>video slide</dc:title>
</cp:coreProperties>
</file>